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28F-E850-4994-A906-21086A2A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E3C-CEFF-40B9-A797-FE24B7D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D0B-423C-475D-9E58-26080E68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D69-31FB-467C-B7CB-328078E1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15B-2A46-4E54-BD01-8021417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FFC-F39A-49C5-A57F-CD51DC8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0F7-2F2E-46C2-8CFF-1D6A13E2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759-64E6-4360-A59D-87C35B3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053-FC9D-4690-8E95-E91D959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EAE-3871-44CA-9C87-954DB04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EDC-91C1-4D23-ACE8-4A3365C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543-FEEB-4161-A258-9DDC996E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21D-8632-489B-A127-54B1C25E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22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0:46:18Z</dcterms:created>
  <dc:creator>Steve Badger</dc:creator>
  <dc:description/>
  <dc:language>en-US</dc:language>
  <cp:lastModifiedBy>Steve Badger</cp:lastModifiedBy>
  <dcterms:modified xsi:type="dcterms:W3CDTF">2006-08-24T11:03:55Z</dcterms:modified>
  <cp:revision>2</cp:revision>
  <dc:subject/>
  <dc:title>Slide 1</dc:title>
</cp:coreProperties>
</file>